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6A07-1471-4130-9CBB-B76BC1371E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Times New Roman"/>
              </a:rPr>
              <a:t>МУЗЫКА НАЧАЛА Х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AF8C-CC12-4396-894F-94AB720471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13D3-B2E3-4775-8B21-BCA07DE0CD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7C6C-C4DE-42BF-A19C-9FC2A75E08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9F8B-EBF7-47A8-B24F-7518CEE816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B25F-A14C-48E0-B65D-FC1AFE3486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F6E8-BDD7-497A-82F9-CA57D7572B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A840-B146-4804-BFED-4C1A392FA7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F77-36E0-427E-A7E9-482ED5B7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1DB-21AA-4E21-8D74-CBD6E94B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341-1A2F-418B-9ABE-B87E80CE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B59D-1B89-4E72-8E95-CD9CAC50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22D-B0A9-4D86-B5BA-66F6D76B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745-FFB7-4DD8-AFD2-73DA7D4B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A8A-8DB7-4BED-A998-3F6AA2CE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778-EDFD-4453-9444-AD5774BC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C1B-CDAE-4F32-B8B5-27DE16A9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0D0-6A8D-4FD6-BC4A-0842C2D8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C07-D38C-4B3B-8AC3-BB7AEAAF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76B-7DAF-4932-8372-8FA0F9C3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50AE-D37F-49D5-BFCC-57F22BD68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МУЗЫКА НАЧАЛА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67280" y="5410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47960" y="228600"/>
            <a:ext cx="430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ет на земле живого су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толь жестокого, крутого, адски зл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Чтоб не могла, хоть на час о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 нём музыка свершить переворота...”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ильям Шекспир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2914560" cy="33339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228600" y="230760"/>
            <a:ext cx="7086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28600" y="22896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04920" y="282060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04920" y="504360"/>
            <a:ext cx="65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римский-корсаков"/>
          <p:cNvPicPr/>
          <p:nvPr/>
        </p:nvPicPr>
        <p:blipFill>
          <a:blip r:embed="rId2"/>
          <a:stretch/>
        </p:blipFill>
        <p:spPr>
          <a:xfrm>
            <a:off x="3505320" y="4419720"/>
            <a:ext cx="174456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Мамонтов Савва"/>
          <p:cNvPicPr/>
          <p:nvPr/>
        </p:nvPicPr>
        <p:blipFill>
          <a:blip r:embed="rId3"/>
          <a:stretch/>
        </p:blipFill>
        <p:spPr>
          <a:xfrm>
            <a:off x="7162920" y="380880"/>
            <a:ext cx="180000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аргомыжский"/>
          <p:cNvPicPr/>
          <p:nvPr/>
        </p:nvPicPr>
        <p:blipFill>
          <a:blip r:embed="rId4"/>
          <a:stretch/>
        </p:blipFill>
        <p:spPr>
          <a:xfrm>
            <a:off x="7086600" y="3962520"/>
            <a:ext cx="179064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231120"/>
            <a:ext cx="487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Глзунов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Хренников"/>
          <p:cNvPicPr/>
          <p:nvPr/>
        </p:nvPicPr>
        <p:blipFill>
          <a:blip r:embed="rId3"/>
          <a:stretch/>
        </p:blipFill>
        <p:spPr>
          <a:xfrm>
            <a:off x="5410080" y="2895480"/>
            <a:ext cx="2210040" cy="2175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52280" y="226800"/>
            <a:ext cx="6096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Могучая кучка"/>
          <p:cNvPicPr/>
          <p:nvPr/>
        </p:nvPicPr>
        <p:blipFill>
          <a:blip r:embed="rId2"/>
          <a:stretch/>
        </p:blipFill>
        <p:spPr>
          <a:xfrm>
            <a:off x="6095880" y="228600"/>
            <a:ext cx="2845080" cy="61722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8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